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728125-A111-4A5A-A5D7-CA532B0AB5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269307-FF5F-4C93-A17E-700DE5A34E1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5F8C8E-14BA-416E-BE05-07102D6C297D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531EB7-DCB7-4CB8-9339-0A031F030639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943C2A-F53B-4FBA-B77A-8BF9D5E1766A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593B69-D072-42F4-BA06-F98ED973575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F37ACB-0689-4A7F-B00D-331E08B9AACF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8727C5-4618-40F9-8BD0-E208D0BFEA74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BBA94F-A537-4900-A512-93551C82D4F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F3F6E4-E91E-4625-B946-B71AFC3D30A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00DB68-759D-4C0E-ADC7-2985F5DD0A99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713D00-6EB0-4570-AF51-E4126A894DB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3B9D01-F726-4852-BD1F-62A00414721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9053F1-E309-41F7-811A-63EC635F5E09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D3BB9A-2C46-479E-A62A-015C05D7D7D1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E7DC10-6966-4355-AB57-6EAACA61F14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CA2485-9EE5-41C4-B4F3-0EB2D9A2B13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181-7971-4E13-95A5-6AA97480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026-FE33-4EBF-9EB8-20E0964A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256-AC94-44FF-85CB-FB2A739F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869-B143-4B89-B485-D5CCE6CB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D79DA-91BA-4F5A-9240-5EE71E09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2C53E-A542-445F-86CE-7E1A14B4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58A6D-1400-4C68-8A03-97CEE914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A4310-771D-4FE7-80B6-5FAA3B8F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F384C-E053-4E6F-8A4A-FFA49628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A81C3-21C3-4257-B9F9-39A9758F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45B72-378A-482F-B046-C6C5B995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8E3-87F1-4727-BF3A-2F25EA52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151CF-C8A9-46C3-83A9-88D25462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778C9-FABD-4C09-89E5-2B4F0A13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DFB83-2373-4E48-9E5A-4AB93C0C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6A61E-1137-4910-B50E-791D6556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8E7CD-F990-4D5D-A4B8-0BE4F727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652-A6AC-4AE3-9250-9597B1AA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660-6F64-4C1F-B754-9A498B44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B32-F2EE-4CE7-8C42-AC0526E4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A3F-1BE6-4FD0-8A1B-EBAE7EC6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88A-6E24-4EA4-96FF-4007B035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E70-6F1A-4080-A578-EEFF9F20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18C-CEA8-44C7-A5EE-49D9C145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3C1C-7BB7-492B-8483-CBF72CEB66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DC3C-ECF1-4AEC-992D-6EC9F85932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SPAC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itre 6 – Leçon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 – traduire / mettre / r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Nou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ri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Nous rion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Vou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mett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Vous mettez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J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souri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Je souri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Elle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mett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Elles metten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vend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On ven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u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mett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Tu met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381240" y="304560"/>
            <a:ext cx="9829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3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600" spc="-1" strike="noStrike">
                <a:solidFill>
                  <a:srgbClr val="ffffff"/>
                </a:solidFill>
                <a:latin typeface="Arial"/>
              </a:rPr>
              <a:t>FIN!</a:t>
            </a:r>
            <a:endParaRPr b="0" lang="en-US" sz="3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Unicode MS"/>
              </a:rPr>
              <a:t>Direc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ffffff"/>
                </a:solidFill>
                <a:latin typeface="Arial"/>
              </a:rPr>
              <a:t>ALLONS-Y!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com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Il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condui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Il condui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u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mett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tu met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nou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radui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ffffff"/>
                </a:solidFill>
                <a:latin typeface="Arial"/>
              </a:rPr>
              <a:t>nous traduiso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J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Rendr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Je rend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Vou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rir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Vous riez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Tu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construir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Tu construi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Il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Arial"/>
              </a:rPr>
              <a:t>produi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200" spc="-1" strike="noStrike">
                <a:solidFill>
                  <a:srgbClr val="ffffff"/>
                </a:solidFill>
                <a:latin typeface="Arial"/>
              </a:rPr>
              <a:t>Ils produisen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1-12-04T19:38:31Z</dcterms:modified>
  <cp:revision>144</cp:revision>
  <dc:subject/>
  <dc:title>Allez, viens! – Level 2</dc:title>
</cp:coreProperties>
</file>